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93F-9E43-4F98-8D59-21FA40F7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97F-5388-4BD5-8DFD-44ECB7B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117-F6DC-4EBA-A4AE-B972DCC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60F-6DCB-4927-8CCE-4B7D54C1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D3D-061C-4AA9-B4BF-D4E95EB8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FF3-162D-4E79-A7D8-F61B6E2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D8D-9CFE-40FA-9155-6D597B5C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375-295C-47BA-A261-98179D8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364-7D78-4020-9038-6AB0264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C43-2F74-4CFD-8090-5C36ECF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5F1-1A7B-43C0-BB63-C8356B3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422-7132-4D38-84A1-28B43C4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7E7-6339-40A1-9BAB-DBE06651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ow things are alike and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cks and Ri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400480" y="1036800"/>
            <a:ext cx="914400" cy="66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943600" y="1036800"/>
            <a:ext cx="901800" cy="749160"/>
          </a:xfrm>
          <a:prstGeom prst="rect">
            <a:avLst/>
          </a:prstGeom>
          <a:ln w="0">
            <a:noFill/>
          </a:ln>
        </p:spPr>
      </p:pic>
      <p:sp>
        <p:nvSpPr>
          <p:cNvPr id="46" name="Oval 7"/>
          <p:cNvSpPr/>
          <p:nvPr/>
        </p:nvSpPr>
        <p:spPr>
          <a:xfrm>
            <a:off x="380880" y="922320"/>
            <a:ext cx="541044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3581280" y="922320"/>
            <a:ext cx="525780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67080" y="2057400"/>
            <a:ext cx="838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62120" y="2286000"/>
            <a:ext cx="2819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webbed feet to help it s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867280" y="2362320"/>
            <a:ext cx="24386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back legs to s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62120" y="3200400"/>
            <a:ext cx="2819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to warmer weather in the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867280" y="3390840"/>
            <a:ext cx="28195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ernates during the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143000" y="4419720"/>
            <a:ext cx="2514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beak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t fish or po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943600" y="4343400"/>
            <a:ext cx="21337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ts stick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to ea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9880" y="289548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ch from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000680" y="4000680"/>
            <a:ext cx="13334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o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and L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380880" y="922320"/>
            <a:ext cx="541044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581280" y="922320"/>
            <a:ext cx="525780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267080" y="2057400"/>
            <a:ext cx="838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62120" y="2286000"/>
            <a:ext cx="2819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s n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867280" y="2362320"/>
            <a:ext cx="24386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alks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62120" y="3200400"/>
            <a:ext cx="2819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s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867280" y="3390840"/>
            <a:ext cx="28195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s m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809880" y="289548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y bas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000680" y="4000680"/>
            <a:ext cx="13334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ke 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146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9436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8:44:30Z</dcterms:created>
  <dc:creator>Kristen M. Clasen</dc:creator>
  <dc:description/>
  <dc:language>en-US</dc:language>
  <cp:lastModifiedBy>teacher</cp:lastModifiedBy>
  <dcterms:modified xsi:type="dcterms:W3CDTF">2011-01-03T23:34:54Z</dcterms:modified>
  <cp:revision>3</cp:revision>
  <dc:subject/>
  <dc:title>Compare and Contrast -</dc:title>
</cp:coreProperties>
</file>